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45B-952B-4503-961D-299E8E64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011-6B8C-4C9E-8691-760CCEF3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61B-5430-4F44-A9BC-11CF9CF1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0F2-CEC3-4060-A851-188A5EE3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B83-3DFB-48AC-BB90-A257B13E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45D-A952-47F3-A51E-59C30BCA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EAF-C167-45AD-93DF-789F8B51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A12-16B4-4130-8658-B2C7C51E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95E-59A0-4A6A-8AEB-A960DB2A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AB1-6C79-48A4-8F75-79915821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F1B-7EB1-4CCA-9FC1-7E988009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21A-376F-4516-8DF0-B47D17B6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0A66-C642-46EE-B644-5226364165C2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يف بدي خاف من العتم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ت اللي بتعطيني الن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ش ممكن أرفض هالنعم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لي بتغمر كل الـمعم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ش ممكن أبداً يا رب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رافق أوقاتي الصع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غامرني بكل مح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حوّل أحزاني زه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نت الكلمه وراح بتض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بدايـــه والنهايــ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غمه بترفرف وته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يسمعها الرايح والجاي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دايماً راح تبقى يا رب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أمل تنوّرلي درب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غلى عطية مح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حبّك وبروحك مسح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نجيلك صدق وحقيق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ادة حياة جديد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ها بتجدّد الروح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ا بفكر إني وحيد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حدك يا ربي بتقبلن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خطايا بتحررن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بإمي العدرا بتجمعن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طريق السماوات بز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9:52:31Z</dcterms:created>
  <dc:creator>Charbel Azar</dc:creator>
  <dc:description/>
  <dc:language>en-US</dc:language>
  <cp:lastModifiedBy>Charbel Azar</cp:lastModifiedBy>
  <dcterms:modified xsi:type="dcterms:W3CDTF">2002-07-03T11:05:52Z</dcterms:modified>
  <cp:revision>2</cp:revision>
  <dc:subject/>
  <dc:title>PowerPoint Presentation</dc:title>
</cp:coreProperties>
</file>